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138-3EC8-4C2F-A2BA-29D2AF90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9CD-3CD8-40A0-B41A-EC49AF7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EE6-D116-4F0E-BA6F-8A31FB61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462-D581-43F3-AB42-881A8BF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D2A-C2BF-4A13-8597-7F6B273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677-2F8F-419D-BE06-B19BCCF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E5E-DF7C-4E4F-A913-D7CCBEDE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24A-5E2F-48D6-81CB-FE1C4C1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06A-7C2F-41DB-A9EA-79738783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7F7-F93A-4EB9-B50B-6D985E2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C04-7A9E-4DAB-A21D-665B790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A19-C51A-44E4-97CD-2B6104C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528-848D-4896-8744-57F1DCAF1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uss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Russific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ut it simply….. Make everything Russian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holas’s grandfather Alexander III brought it in as a policy during his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wanted one nation with one nationality, one language, one culture and one relig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 problem here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12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TERACY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0000"/>
                </a:solidFill>
                <a:latin typeface="Comic Sans MS"/>
              </a:rPr>
              <a:t>PAN SLAV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Comic Sans MS"/>
              </a:rPr>
              <a:t>The movement , especially in the 19</a:t>
            </a:r>
            <a:r>
              <a:rPr b="0" i="1" lang="en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i="1" lang="en" sz="3200" spc="-1" strike="noStrike">
                <a:solidFill>
                  <a:srgbClr val="000000"/>
                </a:solidFill>
                <a:latin typeface="Comic Sans MS"/>
              </a:rPr>
              <a:t> Century, for the union of the Slavic peoples, especially under the control of Tsarist Russia</a:t>
            </a:r>
            <a:r>
              <a:rPr b="0" lang="e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5933" t="24549" r="33154" b="0"/>
          <a:stretch/>
        </p:blipFill>
        <p:spPr>
          <a:xfrm>
            <a:off x="6804000" y="189000"/>
            <a:ext cx="2158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h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ind all the Russian people together around one person….. the Ts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other religion, culture or nationality can become more important than Russia so just make everyone Russi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ther layer of control over the Russian people under the aut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make Russia strong and united like other powers e.g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id it invol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 education was changed and had to be delivered or translated into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ssian was spoken in the court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ligions to be practiced or tolerated except Russian Orthod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thnic minority culture to be celebrated – only Russian cus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Russian clothing to be w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 Russians had to become Russian citizen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s were the minority of the empire – only made up 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holic Poles and Asiatic Muslims were pressurised to convert to Russian Orthod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 officials were put in to run region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ws were persecuted for being ‘anti-R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a series of POGRO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hrana and army used against those pro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were encouraged to ‘seek out’ those who were anti-Rus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‘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capegoat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= when things were going well the Russians took the credit but during hard times the ethnic minorities got the blame – this encouraged more people to turn agains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TERACY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912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POGR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violent mob attack generally against Jews, and often allowed by the forces of law. Can involve killings and/or destruction of homes and properties, businesses, and religious cen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is now also sometimes used to describe attacks against non-Jewish ethnic or religi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5933" t="24549" r="33154" b="0"/>
          <a:stretch/>
        </p:blipFill>
        <p:spPr>
          <a:xfrm>
            <a:off x="6732720" y="1413000"/>
            <a:ext cx="2158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0854" t="27125" r="4485" b="32189"/>
          <a:stretch/>
        </p:blipFill>
        <p:spPr>
          <a:xfrm>
            <a:off x="0" y="105264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1:12:21Z</dcterms:created>
  <dc:creator>sthcampbellc1</dc:creator>
  <dc:description/>
  <dc:language>en-US</dc:language>
  <cp:lastModifiedBy>sthcantleyn1</cp:lastModifiedBy>
  <dcterms:modified xsi:type="dcterms:W3CDTF">2013-08-21T09:51:06Z</dcterms:modified>
  <cp:revision>4</cp:revision>
  <dc:subject/>
  <dc:title>Russification</dc:title>
</cp:coreProperties>
</file>